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A61-4683-4969-9D82-26420D77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C09-94AB-41C0-9AC0-DB7C6E74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D59-8FF8-4CE6-B9E1-694E5EC9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B97-F9E9-4142-90BD-85D6CB8E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DB4C-0C09-4FA1-ACC0-EDE37892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FCF3-A908-4D93-A525-B64D4024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515F-3D00-4C28-97FB-A37813F7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F95F-E83C-4E7E-A2AF-BD1CDD3F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8FD3-9594-401B-ACA8-68808E34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49BC-B665-4336-8F9F-06E7B5A7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EDAC-A59F-49F6-8816-63E9B22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1CC-500C-437C-B86E-E50C07BB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A8F3-0D53-46AB-9A0C-0EF25524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26AA-75A0-4939-92C1-22024331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D3CA-9F92-4D7F-8A2C-F812FF21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9AA8-FCAC-45AC-8F8F-8E1CEBEF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77E9-746A-4D79-8B83-C56ADE2B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61E-F4A0-4C71-B931-1348FA33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9E6-E9F9-4539-97DC-4E6AA93E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C4E-37A7-45DC-954A-15243F47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A29-9554-48A4-BF50-8D0F6844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8BB-E853-4D36-9281-FAFFD2C3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28A-DE99-4CDC-9E67-64ACB2D5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B9F-2AD1-49E1-B8F1-52F04A7B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C676-E691-4876-B9AA-F183C5B6F29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0F4C-8B9C-46C8-877A-98BD097FC76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How%20to%20Start%20the%20Research.pdf" TargetMode="External"/><Relationship Id="rId2" Type="http://schemas.openxmlformats.org/officeDocument/2006/relationships/hyperlink" Target="file:///Instuction%20to%20Select%20a%20Researh%20Topic.pdf" TargetMode="External"/><Relationship Id="rId3" Type="http://schemas.openxmlformats.org/officeDocument/2006/relationships/hyperlink" Target="file:///Research%20Guide.pdf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onducting Re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nda Ganesan, Ph.D.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rofessor of Information System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lifornia State University, Los Angel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nitial Identification of Emerging Area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nternet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gazine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Will provide an indication about emerging area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Visit the nearest computer book stor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r search http://www.amazon.com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trade magazines and trade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industry websit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ttp://www.Microsoft.com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rade publication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Review of academic pub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bstrac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Abstract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lge Search is a good starting poin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Key words are everything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ake copies of all the important documents with an abstract stored separatel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hortlist the possible topics 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More Specific Literature Survey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cholarly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ccess associations in the field for more information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brary databas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cholarly Journal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dentify journals in the fiel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st of journal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arrow down to target journal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Target journal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journal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Journal of Technology Educ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ssociations in the Fiel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tance Education Associ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information about the journals published by the associ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Identifying Journals in the Field: Library Searches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ibrary database search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ric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ther 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panding on the journal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Obtain information on additional journal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oop back to Google search with the new information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Expanding and Focusing the Literature Survey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is that one article that can expand the literature ba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Obtain additional names of journals and topics from the references of the most relevant artic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any a times, it would be one group of authors who will be talking about a particular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o more search based on the author’s nam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Current Work-in Progres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information on current work in progress that may contain bits of pieces of different papers or chapt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Keep copies of all the referenc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xample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topic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iterature survey articl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asic reference listing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g: Agre’s summary of basic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Alternativ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bjective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electing a research topic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onducting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efending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Final submission of the thesi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earch Engin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asic and advanced 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Other search engine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oogle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eneral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dvanced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dvance search operator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Google Scholar 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Other 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terate between Google search and the search of other material such as journal search etc.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ing the Thesi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Writ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odularize the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Start writing under each of the module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Good starting points are introduction, literature survey, description of the process divided possibly into multiple chapter, presentation of results, discussion, reference to future work and conclusion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Feel free to move from one module to another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t the early stages, the flow of information must be the prime objectiv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ffort to maintain continuity should not hinder the flow of thoughts while initially writing the thesi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tting Starte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the introduction and the literature survey in skeleton for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Have an outline of the thesi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must be in modular form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General Modular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terature survey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Hypotheses and/or experimental background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xperimental or Procedural desig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1: Details of experiment and presentations of finding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Module 2: Details of experiment and presentation of findings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Discussion of findings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Conclusion and reference to future work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List of Reference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tarting to Write 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dularize the chapters into sub-topic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art writing under each module as the thoughts flow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o not focus on continuity or grammar at this tim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nclude additional sections and/or remove current sections as appropria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Some Writing Technique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Leave writing when writing block occu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fore ending a writing session make short notes on the next session to star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ink about the topic the night before the day of writing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ornings are the best time to writ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fining the Thesi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Establish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Do additional literature survey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ontinue to improve continuit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Give the thesis to be read by a technical and a non-technical person and make changes accordingly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Leave a gap of time before the final reading and editing of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erform final editing and submit the thesis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Before Starting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down all the ideas and obtain copies of all the relevant material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tore all the information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Carry a flash drive for the purpos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Important Consider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ways be nice to the superviso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Thesis research teaches you more than scientific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It extols the virtue of human relationship, patience etc.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A Sample Forma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search Paper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Examples of Local Pap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 will be provided that follows the suggested outline, in general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areer advise expert system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Research Process in General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 scholarly paper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iscuss ideas with colleague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Write an initial paper and revise the paper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mplement research ideas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Becoming part of a larger research community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ference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For Starters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If one is new, do a Google search for articles on how to start th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Some examples: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1"/>
              </a:rPr>
              <a:t>How to start th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2"/>
              </a:rPr>
              <a:t>Instruction to select a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Book Antiqua"/>
                <a:hlinkClick r:id="rId3"/>
              </a:rPr>
              <a:t>Research guide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Web guide to start searching for research topic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Research Topic Orientation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Must be differentiated from development of applications 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Not that all research need not be pure research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pplied research with new ideas are also widely accepted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Define the Area of Research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Define the areas of interes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Pure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upply Chain Management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Recent areas of hot analytical research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Applied research</a:t>
            </a:r>
            <a:endParaRPr b="0" lang="en-US" sz="28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Enterprise resource management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Internet security etc.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Must read scholarly journals and technical publications 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Book Antiqua"/>
              </a:rPr>
              <a:t>Combining with Areas of Strength</a:t>
            </a:r>
            <a:endParaRPr b="0" i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The actual selection must now be determined by the areas of strength of the candidate along with the area of interest 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Database design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Network applications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Strengths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nalytical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Applied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Book Antiqua"/>
              </a:rPr>
              <a:t>Following the in-house research pattern may not be the best choice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Eg: MySQL and php based application development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Venture into other areas as well </a:t>
            </a:r>
            <a:endParaRPr b="0" lang="en-US" sz="20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Book Antiqua"/>
              </a:rPr>
              <a:t>The Start</a:t>
            </a:r>
            <a:endParaRPr b="0" i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Read, read and read more!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13:28:09Z</dcterms:created>
  <dc:creator>kumar</dc:creator>
  <dc:description/>
  <dc:language>en-US</dc:language>
  <cp:lastModifiedBy>Teacher WD Shuttle</cp:lastModifiedBy>
  <dcterms:modified xsi:type="dcterms:W3CDTF">2006-07-24T05:54:13Z</dcterms:modified>
  <cp:revision>33</cp:revision>
  <dc:subject/>
  <dc:title>Conducting Resear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